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D62-E327-4572-B701-0FF05B36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075-56BA-4CCF-9315-BF51D3E3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FBF-CE3A-456E-9B03-F2C94652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069-3A7D-4689-A9C0-AFA1C8D2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FA9-586C-4AAA-B31D-8A86EBDB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108-2902-4ED8-898F-0305B3E7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511-2129-4E59-A127-1FBFB191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C4F-58D6-4749-9C17-6F4A8969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005-B248-47DD-86AB-B92F4E7E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555-79FE-4FB0-B898-406DAE1B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6D5-2BCD-4CE0-B504-80C1BDAD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7C8-FF9E-486A-ADE0-8BF69E54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9CC6-EC04-4D3B-A68D-D59E7292CD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sap.gov.p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sap.gov.p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sap.gov.p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sap.gov.p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sap.gov.p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sap.gov.p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sap.gov.p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898989"/>
                </a:solidFill>
                <a:latin typeface="Calibri"/>
              </a:rPr>
              <a:t>Projekt został zrealizowany przy wsparciu finansowym Komisji Europejskiej w ramach programu „Uczenie się przez całe życie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46" name="pole tekstowe 8"/>
          <p:cNvSpPr/>
          <p:nvPr/>
        </p:nvSpPr>
        <p:spPr>
          <a:xfrm>
            <a:off x="900000" y="1125360"/>
            <a:ext cx="692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gotowania Republiki Węgierskiej do sprawowania Przewodnictwa w Radzie 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356000" y="3860640"/>
            <a:ext cx="32403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Małgorzata Rad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XIX Promo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93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95" name="pole tekstowe 5"/>
          <p:cNvSpPr/>
          <p:nvPr/>
        </p:nvSpPr>
        <p:spPr>
          <a:xfrm>
            <a:off x="571680" y="1214280"/>
            <a:ext cx="7858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kolen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kolenia twarde – z wiedzy o EU: porządek instytucjonalny i prawny UE, prezydencja Rady UE, proces decyzyjny, koordynacja polityki europej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kolenia miękkie - praktyczne aspekty sprawowania prezydencji, techniki negocjacji, techniki prezent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kolenia językowe – j. angielski, j. francuski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niemiecki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98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7"/>
          <p:cNvSpPr/>
          <p:nvPr/>
        </p:nvSpPr>
        <p:spPr>
          <a:xfrm>
            <a:off x="468360" y="692280"/>
            <a:ext cx="8136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omocja Prezydenc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gram kulturalno – promocyj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923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 Węgrzech - Ministerstwo Zasobów Narodowych (Nemzeti Fejlesztési Minisztér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923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 granicami Węgier – Instytut Bálinta Balassi-ego (Balassi Bálint Intéz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92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mocja w Internec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923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rona o UE i Prezyde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923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ładki dot. Prezydencji na stronach ministerstw i urzędów central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923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fil Prezydencji w portalach społeczności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EUvon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FacebookH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05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"/>
          <p:cNvSpPr/>
          <p:nvPr/>
        </p:nvSpPr>
        <p:spPr>
          <a:xfrm>
            <a:off x="395280" y="1628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ogo Prezydenc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4"/>
          <a:stretch/>
        </p:blipFill>
        <p:spPr>
          <a:xfrm>
            <a:off x="0" y="2924280"/>
            <a:ext cx="8964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11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"/>
          <p:cNvSpPr/>
          <p:nvPr/>
        </p:nvSpPr>
        <p:spPr>
          <a:xfrm>
            <a:off x="539640" y="227664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Lengyel, magyar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– két jó barát….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(Polak, Węgier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- dwa bratanki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images"/>
          <p:cNvPicPr/>
          <p:nvPr/>
        </p:nvPicPr>
        <p:blipFill>
          <a:blip r:embed="rId4"/>
          <a:stretch/>
        </p:blipFill>
        <p:spPr>
          <a:xfrm>
            <a:off x="4211640" y="692280"/>
            <a:ext cx="2149560" cy="1336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5" name="Picture 12" descr="images (1)"/>
          <p:cNvPicPr/>
          <p:nvPr/>
        </p:nvPicPr>
        <p:blipFill>
          <a:blip r:embed="rId5"/>
          <a:stretch/>
        </p:blipFill>
        <p:spPr>
          <a:xfrm>
            <a:off x="6012000" y="1125360"/>
            <a:ext cx="2016000" cy="134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dtytuł 2"/>
          <p:cNvSpPr/>
          <p:nvPr/>
        </p:nvSpPr>
        <p:spPr>
          <a:xfrm>
            <a:off x="1371600" y="4508640"/>
            <a:ext cx="6400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898989"/>
                </a:solidFill>
                <a:latin typeface="Calibri"/>
              </a:rPr>
              <a:t>Projekt został zrealizowany przy wsparciu finansowym Komisji Europejskiej w ramach programu „Uczenie się przez całe życi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121" name="pole tekstowe 8"/>
          <p:cNvSpPr/>
          <p:nvPr/>
        </p:nvSpPr>
        <p:spPr>
          <a:xfrm>
            <a:off x="1042920" y="2565360"/>
            <a:ext cx="69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iękuję za uwag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50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8"/>
          <p:cNvSpPr/>
          <p:nvPr/>
        </p:nvSpPr>
        <p:spPr>
          <a:xfrm>
            <a:off x="285840" y="292896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ydencja węgiers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rwsza połowa 2011 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atnie państwo trio: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zpania – Belgia - Wę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az 9" descr="nyertes_logo.HUjpg_01.jpg"/>
          <p:cNvPicPr/>
          <p:nvPr/>
        </p:nvPicPr>
        <p:blipFill>
          <a:blip r:embed="rId5"/>
          <a:stretch/>
        </p:blipFill>
        <p:spPr>
          <a:xfrm>
            <a:off x="5500800" y="1143000"/>
            <a:ext cx="3390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58" name="pole tekstowe 5"/>
          <p:cNvSpPr/>
          <p:nvPr/>
        </p:nvSpPr>
        <p:spPr>
          <a:xfrm>
            <a:off x="428760" y="1357200"/>
            <a:ext cx="8501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ydencja węgierska a Traktat z Lizbo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zeci kraj sprawujący Prezydencję w nowym syste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rwsze trio w nowym systemie – brak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gotowania koncentrowały się na stanie prawnym według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ktatu Nicejskiego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konieczność dostosowania, modyfikacje kalendarza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63" name="pole tekstowe 5"/>
          <p:cNvSpPr/>
          <p:nvPr/>
        </p:nvSpPr>
        <p:spPr>
          <a:xfrm>
            <a:off x="500040" y="2928960"/>
            <a:ext cx="72151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zary przygotowa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yt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y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ż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ry i szkol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ura i promoc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e tekstowe 6"/>
          <p:cNvSpPr/>
          <p:nvPr/>
        </p:nvSpPr>
        <p:spPr>
          <a:xfrm>
            <a:off x="428760" y="100008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gotowania do Prezydencj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nie – Ministerstwo Spraw Zagranic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rtowo – Sekretarz/Podsekretarz Stanu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. Europejsk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69" name="pole tekstowe 6"/>
          <p:cNvSpPr/>
          <p:nvPr/>
        </p:nvSpPr>
        <p:spPr>
          <a:xfrm>
            <a:off x="714240" y="857160"/>
            <a:ext cx="77155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erstwo Spraw Zagranicznych Republiki Węgierskiej –  A 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yar Köztársaság Külügyminisztériu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ament Koordynacji Prezydencji i Prawa Unii Europejskiej (EU Elnökségi Koordinációs és Jogi Főosztál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dział Wydatków i Obsługi Prezydencji (EU Elnökségi Költségvetési és Logisztikai Osztál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ament Komunikacji i Promocji (Kommunikációs és Közkapcsolati Főosztá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72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8"/>
          <p:cNvSpPr/>
          <p:nvPr/>
        </p:nvSpPr>
        <p:spPr>
          <a:xfrm>
            <a:off x="642960" y="1285920"/>
            <a:ext cx="792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ole tekstowe 9"/>
          <p:cNvSpPr/>
          <p:nvPr/>
        </p:nvSpPr>
        <p:spPr>
          <a:xfrm>
            <a:off x="500040" y="857160"/>
            <a:ext cx="8319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ytety Prezydencji węgierskie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izm i wielokulturowoś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yka związana z wodami śródlądowym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yka energetyczna i klimatycz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two Wschodn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a socjal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a konkurencyjności oraz bezpieczeństwa komunikacj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a strategia lizbońs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zerzenie Unii Europejskie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ługa skutków kryzys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gotowywanie nowej perspektywy finansowej UE (cykl budżetowy na lata 2014 - 20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napis"/>
          <p:cNvPicPr/>
          <p:nvPr/>
        </p:nvPicPr>
        <p:blipFill>
          <a:blip r:embed="rId3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78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C:\Users\dominika\Desktop\leonardo_rgb.jpg"/>
          <p:cNvPicPr/>
          <p:nvPr/>
        </p:nvPicPr>
        <p:blipFill>
          <a:blip r:embed="rId4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80" name="pole tekstowe 5"/>
          <p:cNvSpPr/>
          <p:nvPr/>
        </p:nvSpPr>
        <p:spPr>
          <a:xfrm>
            <a:off x="857160" y="1071720"/>
            <a:ext cx="7572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yk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isja ds. Prezydencji Republiki Węgierskiej w UE (Az EU-elnökség Bizottsá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ędzyresortowy Zespół do spraw Koordynacji Polityki Europejskiej (Az Európai Koordinációs Tárcaközi Bizottság – EK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apeszt – Budapeszt – Budapes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5"/>
          <p:cNvSpPr/>
          <p:nvPr/>
        </p:nvSpPr>
        <p:spPr>
          <a:xfrm>
            <a:off x="714240" y="1571760"/>
            <a:ext cx="7643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żet Prezydencji węgierskiej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. 100 mln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lamreform Operatív Program – finansowanie szkoleń i warsztat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logo"/>
          <p:cNvPicPr/>
          <p:nvPr/>
        </p:nvPicPr>
        <p:blipFill>
          <a:blip r:embed="rId1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napis"/>
          <p:cNvPicPr/>
          <p:nvPr/>
        </p:nvPicPr>
        <p:blipFill>
          <a:blip r:embed="rId2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:\Users\dominika\Desktop\leonardo_rgb.jpg"/>
          <p:cNvPicPr/>
          <p:nvPr/>
        </p:nvPicPr>
        <p:blipFill>
          <a:blip r:embed="rId3"/>
          <a:stretch/>
        </p:blipFill>
        <p:spPr>
          <a:xfrm>
            <a:off x="0" y="5732640"/>
            <a:ext cx="2335320" cy="1125360"/>
          </a:xfrm>
          <a:prstGeom prst="rect">
            <a:avLst/>
          </a:prstGeom>
          <a:ln w="0">
            <a:noFill/>
          </a:ln>
        </p:spPr>
      </p:pic>
      <p:sp>
        <p:nvSpPr>
          <p:cNvPr id="90" name="pole tekstowe 5"/>
          <p:cNvSpPr/>
          <p:nvPr/>
        </p:nvSpPr>
        <p:spPr>
          <a:xfrm>
            <a:off x="571680" y="13572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oby ludzk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2008 roku – nabór do korpusu Prezyden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ynatorzy merytoryczni oraz organizacyj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. 700 koordynatorów merytoryc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8 osób zatrudnionych jest w Stałym Przedstawicielstwie Republiki Węgierskiej przy Unii Europejskiej w Brukse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15:26Z</dcterms:created>
  <dc:creator>test2002</dc:creator>
  <dc:description/>
  <dc:language>en-US</dc:language>
  <cp:lastModifiedBy>RADWAN</cp:lastModifiedBy>
  <dcterms:modified xsi:type="dcterms:W3CDTF">2010-07-15T21:15:11Z</dcterms:modified>
  <cp:revision>22</cp:revision>
  <dc:subject/>
  <dc:title>Slajd 1</dc:title>
</cp:coreProperties>
</file>